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F2334-1FDB-4214-94AE-52DD87C39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3DC2C-5488-4905-9650-DD28E2429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E8F95-AD11-4015-8BCC-5C7C137BF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77666-E72D-4A2F-9D0C-B90B1AB3B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E3EA3-9C2B-4384-8308-F26C8EF37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B145D-1AEB-45ED-8B5F-C1FE592F6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D9095-2D9A-432F-958C-CFEA697FB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AA103-8F7A-436F-9EB7-8C3531FC4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55D19-37C1-44BF-80EC-2E54B25F2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DB6FD-0A49-42A4-98EA-56F44A972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6C4B5-861E-492D-B0FA-67AD9B450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E3444-C231-4051-AC89-CC0CFD83C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Freeform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80808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DA109-E23B-4C06-82F4-B0353B3BC8BD}" type="slidenum">
              <a:rPr b="0" lang="en-US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ccaf0a"/>
                </a:solidFill>
                <a:latin typeface="Franklin Gothic Book"/>
              </a:rPr>
              <a:t>The Northern Renaissanc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ccaf0a"/>
                </a:solidFill>
                <a:latin typeface="Franklin Gothic Book"/>
              </a:rPr>
              <a:t>Sir Thomas More</a:t>
            </a: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 (1478-1535)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533160" y="1294920"/>
            <a:ext cx="746748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Good friend of Erasmu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Made translations from Greek authors and wrote prose and poetry in Lati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hining example of Christian family lif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057400" y="3414600"/>
            <a:ext cx="5111640" cy="344340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8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8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8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8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ccaf0a"/>
                </a:solidFill>
                <a:latin typeface="Franklin Gothic Book"/>
              </a:rPr>
              <a:t>Sir Thomas More</a:t>
            </a: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 (1478-1535)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st famous work and controversial book of his age was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Utop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60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dealistic life and institutions of the commun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60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aginary life on an island in the New Worl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60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cerns for economic, social, and political problems of the da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60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operation and reason replaces power and f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60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munal ownership of property, not priv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60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veryone works nine hours/day and rewarded by their need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60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7620120" y="4267080"/>
            <a:ext cx="1428480" cy="228600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ccaf0a"/>
                </a:solidFill>
                <a:latin typeface="Franklin Gothic Book"/>
              </a:rPr>
              <a:t>Sir Thomas More</a:t>
            </a: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 (1478-1535)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304920" y="1599840"/>
            <a:ext cx="6781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Arial"/>
              </a:rPr>
              <a:t>Utopia…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ssessing abundant leisure time and relieved of competition and gre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ree to do wholesome and religious thing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ree to do wholesome and enriching thing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cial relations, recreation, and travel were carefully controlled for the moral welfare of society and its members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151760" y="4114800"/>
            <a:ext cx="1992240" cy="24908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ccaf0a"/>
                </a:solidFill>
                <a:latin typeface="Franklin Gothic Book"/>
              </a:rPr>
              <a:t>Sir Thomas More</a:t>
            </a: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 (1478-1535)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ore was a man of conscience and gave up his life opposing England’s break with the Roman Catholic church over the divorce of King Henry VIII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4538520" y="1600200"/>
            <a:ext cx="3883320" cy="502920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4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4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ccaf0a"/>
                </a:solidFill>
                <a:latin typeface="Franklin Gothic Book"/>
              </a:rPr>
              <a:t>Christian and Northern Renaissance Humanism</a:t>
            </a: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Northern humanists cultivated a knowledge of the classics—a bond that united all humanist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ey focused on the sources of early Christianit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ly Scriptures and writings of Augustine, Jerome, and Ambros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ey believed the simplicity of the religion had been distorted by complicated theological argumen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ccaf0a"/>
                </a:solidFill>
                <a:latin typeface="Franklin Gothic Book"/>
              </a:rPr>
              <a:t>Christian and Northern Renaissance Humanism</a:t>
            </a: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The reform program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s the most important characteristic of northern humanis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60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l humans can improve themselv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60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ading of classical and Christian antiquity would instill true inner piety and bring about refor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60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pported schools, brought out new editions of the classics, and prepared new editions of the B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60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concept of education would remain important to European cult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ccaf0a"/>
                </a:solidFill>
                <a:latin typeface="Franklin Gothic Book"/>
              </a:rPr>
              <a:t>Christian or Northern Renaissance Humanism</a:t>
            </a: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hristian humanists believe people must change before society chang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hristian humanists have been called naïve or optimistic, contingent on point of view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urmoil shattered much of the optimism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wo prominent Christian humanists, Desiderius Erasmus and Thomas More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ccaf0a"/>
                </a:solidFill>
                <a:latin typeface="Franklin Gothic Book"/>
              </a:rPr>
              <a:t>Desiderius Erasmus</a:t>
            </a:r>
            <a:r>
              <a:rPr b="0" lang="en-US" sz="4100" spc="-1" strike="noStrike">
                <a:solidFill>
                  <a:srgbClr val="ffffff"/>
                </a:solidFill>
                <a:latin typeface="Franklin Gothic Book"/>
              </a:rPr>
              <a:t> (1466-1536)</a:t>
            </a: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8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st influential of Christian humanis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orn in Holl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ducated in one of the schools of the Brothers of Common Lif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veled widely and conversed in Lat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is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Handbook of the Christian knight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flected his preoccupation with relig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018040" y="1600200"/>
            <a:ext cx="3281400" cy="4648320"/>
          </a:xfrm>
          <a:prstGeom prst="rect">
            <a:avLst/>
          </a:prstGeom>
          <a:ln w="0">
            <a:noFill/>
          </a:ln>
        </p:spPr>
      </p:pic>
    </p:spTree>
  </p:cSld>
  <p:transition>
    <p:cover dir="u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ccaf0a"/>
                </a:solidFill>
                <a:latin typeface="Franklin Gothic Book"/>
              </a:rPr>
              <a:t>Desiderius Erasmus</a:t>
            </a:r>
            <a:r>
              <a:rPr b="0" lang="en-US" sz="4100" spc="-1" strike="noStrike">
                <a:solidFill>
                  <a:srgbClr val="ffffff"/>
                </a:solidFill>
                <a:latin typeface="Franklin Gothic Book"/>
              </a:rPr>
              <a:t> (1466-1536)</a:t>
            </a: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8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s conception of religion: “the philosophy of Christ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80000"/>
              </a:lnSpc>
              <a:spcBef>
                <a:spcPts val="60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ristianity should be guiding daily ligh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80000"/>
              </a:lnSpc>
              <a:spcBef>
                <a:spcPts val="60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jected medieval religious dogma and practi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80000"/>
              </a:lnSpc>
              <a:spcBef>
                <a:spcPts val="60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jected external forms of relig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lnSpc>
                <a:spcPct val="80000"/>
              </a:lnSpc>
              <a:spcBef>
                <a:spcPts val="550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acraments, pilgrimages, fasts, veneration of saints, relics, etc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80000"/>
              </a:lnSpc>
              <a:spcBef>
                <a:spcPts val="60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mphasized original meaning of scriptu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80000"/>
              </a:lnSpc>
              <a:spcBef>
                <a:spcPts val="60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dited the standard Latin edition of the Bible called Vulg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7467480" y="4959360"/>
            <a:ext cx="1384560" cy="1346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ccaf0a"/>
                </a:solidFill>
                <a:latin typeface="Franklin Gothic Book"/>
              </a:rPr>
              <a:t>Desiderius Erasmus</a:t>
            </a:r>
            <a:r>
              <a:rPr b="0" lang="en-US" sz="4100" spc="-1" strike="noStrike">
                <a:solidFill>
                  <a:srgbClr val="ffffff"/>
                </a:solidFill>
                <a:latin typeface="Franklin Gothic Book"/>
              </a:rPr>
              <a:t> (1466-1536)</a:t>
            </a: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380880" y="1600200"/>
            <a:ext cx="7467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o Erasmus, church reform would come from the spreading of the philosophy of Jesus, providing early education in Christianity, and making commonsense criticisms of church abus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He wrote, </a:t>
            </a:r>
            <a:r>
              <a:rPr b="0" i="1" lang="en-US" sz="3000" spc="-1" strike="noStrike">
                <a:solidFill>
                  <a:srgbClr val="ffffff"/>
                </a:solidFill>
                <a:latin typeface="Arial"/>
              </a:rPr>
              <a:t>The Praise of Folly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umorous critique of corrupt practices in societ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specially harsh on the clerg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7156440" y="3809880"/>
            <a:ext cx="1987560" cy="2745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ccaf0a"/>
                </a:solidFill>
                <a:latin typeface="Franklin Gothic Book"/>
              </a:rPr>
              <a:t>Desiderius Erasmus</a:t>
            </a:r>
            <a:r>
              <a:rPr b="0" lang="en-US" sz="4100" spc="-1" strike="noStrike">
                <a:solidFill>
                  <a:srgbClr val="ffffff"/>
                </a:solidFill>
                <a:latin typeface="Franklin Gothic Book"/>
              </a:rPr>
              <a:t> (1466-1536)</a:t>
            </a: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380880" y="1295280"/>
            <a:ext cx="7467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8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s reforms did not achieve the reforms he’d hoped f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s moderation and emphasis on education were overwhelmed by Reformation pass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s work helped prepare the w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rasmus laid egg that Luther hatched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rasmus disapproved of Protestant reform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80000"/>
              </a:lnSpc>
              <a:spcBef>
                <a:spcPts val="60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dn’t want to destroy the unity of the medieval church, just reform i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5638680" y="5113440"/>
            <a:ext cx="3054600" cy="174456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ccaf0a"/>
                </a:solidFill>
                <a:latin typeface="Franklin Gothic Book"/>
              </a:rPr>
              <a:t>Sir Thomas More</a:t>
            </a: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 (1478-1535)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90000"/>
              </a:lnSpc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n of London lawyer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rained in the la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luent in Greek and Lati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elieved in putting learning to state service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ached high level as chancellor of England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6019920" y="1447920"/>
            <a:ext cx="2014560" cy="25905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6019920" y="4114800"/>
            <a:ext cx="2012760" cy="2514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1T04:50:37Z</dcterms:created>
  <dc:creator>Susan Gregory</dc:creator>
  <dc:description/>
  <dc:language>en-US</dc:language>
  <cp:lastModifiedBy>Susan Gregory</cp:lastModifiedBy>
  <dcterms:modified xsi:type="dcterms:W3CDTF">2007-10-01T05:34:10Z</dcterms:modified>
  <cp:revision>17</cp:revision>
  <dc:subject/>
  <dc:title>PowerPoint Presentation</dc:title>
</cp:coreProperties>
</file>